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CDCCE-CA9B-4A47-A1BF-8A9651A19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3181F-D9DE-4608-9B36-D0DF0AEF3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22EAA-5E6B-4C03-BAA1-05FA567B6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E217B-452D-49D8-A160-374B63C55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49E79-84FD-47DA-934F-75B63E4A3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F3839-F6A9-47D8-BDFF-CEBDEF9B6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6A681-C90C-43B4-9F33-DEBDF7C1D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76939-EDF1-4C38-9E0A-CD10348AD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EA7D6-3FFD-4910-988B-116290DCD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ECBEA-509C-4151-908C-F5270FF8F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CCA18-D9B0-4354-8FE9-10D8D6FFC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AF18A-FCEA-41D3-8F1F-D707C27D5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D2475-03DB-4B6B-9526-EF48FE820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BE64B-DF50-4FAE-B3B1-306076E2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29297-5709-4BF6-ADCF-7BCA045DD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24C91-23DD-48F0-957D-DC157B4A7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05FE6-BE9C-40ED-ACFE-A15DA08E6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8C80E-5FD0-46E1-817C-B038FD1A0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DC891-5167-436C-BC65-FFDFC4596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47E65-A724-4A9B-A016-853725F45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30848-457F-4164-B914-813146820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25C69-2FB4-4D52-8153-BB10C44C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F08B2-376B-4C38-8A36-30ADD65B3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F7934-1E9E-455C-B3B2-3F225EB6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7f3f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7f3f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0523F-D8E7-4034-82DE-0B1196A8CC25}" type="slidenum">
              <a:rPr b="0" lang="en-US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d5958"/>
                  </a:gs>
                  <a:gs pos="100000">
                    <a:srgbClr val="8a636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d5958"/>
                  </a:gs>
                  <a:gs pos="100000">
                    <a:srgbClr val="8a636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05050"/>
                  </a:gs>
                  <a:gs pos="100000">
                    <a:srgbClr val="8a636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8a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8565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8a6362"/>
                </a:gs>
                <a:gs pos="100000">
                  <a:srgbClr val="7453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4444"/>
                </a:gs>
                <a:gs pos="100000">
                  <a:srgbClr val="8a6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7f3f3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8c1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d5958"/>
                  </a:gs>
                  <a:gs pos="100000">
                    <a:srgbClr val="8a636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d5958"/>
                  </a:gs>
                  <a:gs pos="100000">
                    <a:srgbClr val="8a636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05050"/>
                  </a:gs>
                  <a:gs pos="100000">
                    <a:srgbClr val="8a636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8a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8565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8a6362"/>
                </a:gs>
                <a:gs pos="100000">
                  <a:srgbClr val="7453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4444"/>
                </a:gs>
                <a:gs pos="100000">
                  <a:srgbClr val="8a6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8c1ba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7f3f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7f3f3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7f3f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9E052-A9C5-458A-A946-05E6265D88AA}" type="slidenum">
              <a:rPr b="0" lang="en-US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cc66ff"/>
                </a:solidFill>
                <a:latin typeface="Harrington"/>
              </a:rPr>
              <a:t>Father/Daughter Dance</a:t>
            </a:r>
            <a:endParaRPr b="1" lang="en-US" sz="68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1066320"/>
            <a:ext cx="739152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7f3f3"/>
                </a:solidFill>
                <a:latin typeface="Harrington"/>
              </a:rPr>
              <a:t>Saturday, June 9, 2012</a:t>
            </a:r>
            <a:endParaRPr b="0" lang="en-US" sz="4000" spc="-1" strike="noStrike">
              <a:solidFill>
                <a:srgbClr val="f7f3f3"/>
              </a:solidFill>
              <a:latin typeface="Garamond"/>
            </a:endParaRPr>
          </a:p>
          <a:p>
            <a:pPr marL="28116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7f3f3"/>
                </a:solidFill>
                <a:latin typeface="Harrington"/>
              </a:rPr>
              <a:t>6:00pm-8:30pm</a:t>
            </a:r>
            <a:endParaRPr b="0" lang="en-US" sz="4000" spc="-1" strike="noStrike">
              <a:solidFill>
                <a:srgbClr val="f7f3f3"/>
              </a:solidFill>
              <a:latin typeface="Garamond"/>
            </a:endParaRPr>
          </a:p>
          <a:p>
            <a:pPr marL="28116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7f3f3"/>
                </a:solidFill>
                <a:latin typeface="Harrington"/>
              </a:rPr>
              <a:t>$50 per couple/$20 add’l person</a:t>
            </a:r>
            <a:endParaRPr b="0" lang="en-US" sz="4000" spc="-1" strike="noStrike">
              <a:solidFill>
                <a:srgbClr val="f7f3f3"/>
              </a:solidFill>
              <a:latin typeface="Garamond"/>
            </a:endParaRPr>
          </a:p>
          <a:p>
            <a:pPr marL="28116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7f3f3"/>
                </a:solidFill>
                <a:latin typeface="Harrington"/>
              </a:rPr>
              <a:t>Come dressed to impress for</a:t>
            </a:r>
            <a:endParaRPr b="0" lang="en-US" sz="4000" spc="-1" strike="noStrike">
              <a:solidFill>
                <a:srgbClr val="f7f3f3"/>
              </a:solidFill>
              <a:latin typeface="Garamond"/>
            </a:endParaRPr>
          </a:p>
          <a:p>
            <a:pPr marL="28116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7f3f3"/>
                </a:solidFill>
                <a:latin typeface="Harrington"/>
              </a:rPr>
              <a:t>Dinner, dancing, photos &amp; fun!!</a:t>
            </a:r>
            <a:endParaRPr b="0" lang="en-US" sz="4000" spc="-1" strike="noStrike">
              <a:solidFill>
                <a:srgbClr val="f7f3f3"/>
              </a:solidFill>
              <a:latin typeface="Garamond"/>
            </a:endParaRPr>
          </a:p>
          <a:p>
            <a:pPr marL="28116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7f3f3"/>
                </a:solidFill>
                <a:latin typeface="Harrington"/>
              </a:rPr>
              <a:t>RSVP &amp; payment due by</a:t>
            </a:r>
            <a:endParaRPr b="0" lang="en-US" sz="4000" spc="-1" strike="noStrike">
              <a:solidFill>
                <a:srgbClr val="f7f3f3"/>
              </a:solidFill>
              <a:latin typeface="Garamond"/>
            </a:endParaRPr>
          </a:p>
          <a:p>
            <a:pPr marL="28116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7f3f3"/>
                </a:solidFill>
                <a:latin typeface="Harrington"/>
              </a:rPr>
              <a:t>June 2, 2012</a:t>
            </a:r>
            <a:endParaRPr b="0" lang="en-US" sz="40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 rot="10504800">
            <a:off x="-152280" y="2819520"/>
            <a:ext cx="3052800" cy="40384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 rot="5400000">
            <a:off x="6734880" y="4448880"/>
            <a:ext cx="207504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2T12:43:49Z</dcterms:created>
  <dc:creator> </dc:creator>
  <dc:description/>
  <dc:language>en-US</dc:language>
  <cp:lastModifiedBy> </cp:lastModifiedBy>
  <dcterms:modified xsi:type="dcterms:W3CDTF">2012-05-02T12:44:34Z</dcterms:modified>
  <cp:revision>1</cp:revision>
  <dc:subject/>
  <dc:title>Father/Daughter Dance</dc:title>
</cp:coreProperties>
</file>