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DBF-C7DF-4BE4-8D1B-BE6C8C1D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0156-8FE3-4A33-A1C3-76B3733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BD94-EA7B-4B1C-927B-9EB4147E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39B1-3EED-40CA-87E3-F756DA72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69B7-1A6E-4A70-B9E4-9DE1D141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64D0-F625-4A5D-BEE2-DD130453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A05F-30A0-4BD3-86AC-A85C8D0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E44-1FB3-4023-ACE0-4ABED45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C87-181F-4CE9-BD22-CD1FFB8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A40-9214-4E4F-8871-8D030EB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1609-2BD0-4173-AD4E-5148DA3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123D-6193-439B-A6B8-42AA3E6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1BB-A939-47C8-9D95-FCCA2250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50E-0226-46C8-9ABB-BE09187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7878-D697-42AE-A8A6-C762047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E80-7A82-44B9-8651-19C47633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E6E-4642-429E-9A9C-A2534523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3D19-4A39-485C-A690-ACD090AE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057-1D81-462F-8025-01EBD480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7669-C730-4BF7-8060-00EA209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AB19-0D89-460F-9FFA-7BF678A8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48A6-C0C6-48F0-8C6B-FB055C7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A455-6E1D-4B50-8164-E35D556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8DEC-AC18-415D-847E-2BB3C40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32A8-E164-4F7B-B6F4-8A38F4A33A28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5AA1-C7E3-4CE6-AE69-9FF24088D1CF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cc66ff"/>
                </a:solidFill>
                <a:latin typeface="Harrington"/>
              </a:rPr>
              <a:t>Father/Daughter Dance</a:t>
            </a:r>
            <a:endParaRPr b="1" lang="en-US" sz="6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Saturday, June 9, 2012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6:00pm-8:30pm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$50 per couple/$20 add’l person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Come dressed to impress for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Dinner, dancing, photos &amp; fun!!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RSVP &amp; payment due by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June 2, 2012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0504800">
            <a:off x="-152280" y="2819520"/>
            <a:ext cx="3052800" cy="403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5400000">
            <a:off x="6734880" y="4448880"/>
            <a:ext cx="20750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2:43:49Z</dcterms:created>
  <dc:creator> </dc:creator>
  <dc:description/>
  <dc:language>en-US</dc:language>
  <cp:lastModifiedBy> </cp:lastModifiedBy>
  <dcterms:modified xsi:type="dcterms:W3CDTF">2012-05-02T12:44:34Z</dcterms:modified>
  <cp:revision>1</cp:revision>
  <dc:subject/>
  <dc:title>Father/Daughter Dance</dc:title>
</cp:coreProperties>
</file>