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7F0-2A3F-4155-AF09-017E32B9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D58-3554-4AD3-84D7-9156C5B5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BB2-4715-4943-949E-2A07A3D6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45B-9644-4CAF-AFAF-9F4BF177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4422-7A85-4786-904D-A42CE72F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0212-0D44-475F-98CD-F5A2D315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CC68-B9E7-4254-AAF5-E9A8BC7D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6740-A912-43FF-BE95-EE6561B5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E6A2-5FCE-4DA7-B578-2C1D635C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F2FF-B3D3-4071-A492-96AF1D5E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31F9-AD0F-4D24-B572-DFC17EB2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0810-6685-47BD-A37E-FD4B4179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087E-9B5A-497E-A9F7-05045A95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E5D3-8CF2-40A6-BCCE-127AB32C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D50C-217F-4422-8E93-72440C16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6684-C43F-426A-B785-24F34571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F665-F870-429D-B3A8-F98C9D48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F823-2319-4D47-80C6-B3FAFAF1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4C35-BEE8-48B2-B2A2-5B3253A0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CA81-17A6-4225-9897-9934716A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4DA-F112-4040-B15B-05CA9FBA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6A2-D03C-45D3-95AE-499DCC09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50FD-BA63-4805-B07B-762F5728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F48-BF19-4D2E-AAF0-610602D4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EEC6-7E89-41DD-B808-51112CC7F8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7718-F926-47EB-858E-1BADFFF2D5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cc66"/>
                </a:solidFill>
                <a:latin typeface="Times New Roman"/>
              </a:rPr>
              <a:t>Fall Sports Registration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June 1 thru July 31, 20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Soccer ages 5-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Baseball ages 7-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Football ages 7-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eerleading ages 5-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omic Sans MS"/>
              </a:rPr>
              <a:t>$30 for the 1</a:t>
            </a:r>
            <a:r>
              <a:rPr b="1" lang="en-US" sz="2800" spc="-1" strike="noStrike" baseline="30000">
                <a:solidFill>
                  <a:srgbClr val="4d4d4d"/>
                </a:solidFill>
                <a:latin typeface="Comic Sans MS"/>
              </a:rPr>
              <a:t>st</a:t>
            </a:r>
            <a:r>
              <a:rPr b="1" lang="en-US" sz="2800" spc="-1" strike="noStrike">
                <a:solidFill>
                  <a:srgbClr val="4d4d4d"/>
                </a:solidFill>
                <a:latin typeface="Comic Sans MS"/>
              </a:rPr>
              <a:t> child/ $20 ea add’l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omic Sans MS"/>
              </a:rPr>
              <a:t>A birth certificate must be presented at the time of  regist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 EXCEPTIONS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66880" y="54864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620120" y="54864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 rot="20502600">
            <a:off x="0" y="5257440"/>
            <a:ext cx="2362320" cy="14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2:45:15Z</dcterms:created>
  <dc:creator> </dc:creator>
  <dc:description/>
  <dc:language>en-US</dc:language>
  <cp:lastModifiedBy> </cp:lastModifiedBy>
  <dcterms:modified xsi:type="dcterms:W3CDTF">2012-05-02T12:46:18Z</dcterms:modified>
  <cp:revision>1</cp:revision>
  <dc:subject/>
  <dc:title>Fall Sports Registration</dc:title>
</cp:coreProperties>
</file>