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4FC-F97F-40E9-B9E6-0BE234E6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E3D-7257-4B47-AE7A-653239EA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976-E930-41B7-BDEA-D53B1A8C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296-431E-44C9-B833-383E81FF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84D6-EE08-4C09-BE52-92E97DAC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F7A5-105B-4517-8CF8-1519E388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4256-296D-4AF8-83BE-6FCF8A33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6975-A4B8-4618-ACCA-66BDE132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55F6-6643-4BDF-8D0E-BBF5854D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35E0-9452-4C20-AB90-50AA5435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4ABA-E764-4D5C-95C1-8BC7068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ABA-0DA4-4786-9978-5E850CB1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56C5-01E0-4414-8C03-486EE78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0C6F-7F5F-4618-9C89-B4CF5A13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AA56-2CF0-471E-9057-B1FCDA6D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4689-7321-4879-AA3E-2AC51CE0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53C0-36E3-473B-8AB9-63032E88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2AF-F98F-450F-94C7-E10AFC7E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FBE-7BFD-49B0-A124-57E7BAF5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B24-C90B-4DB0-B08C-EA36F714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A6C-F90E-46CD-BACA-F86884C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A41-A368-43FA-AAB5-43C5FBF2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32A-5032-4BDA-B42F-0EF3828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ED1-9804-41BC-9C78-BB5C7869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283F-E69B-4517-859A-C6150946E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DD14-E340-4F78-86A4-13229C96A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66"/>
                </a:solidFill>
                <a:latin typeface="Times New Roman"/>
              </a:rPr>
              <a:t>Fall Sports Registration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June 1 thru July 31, 20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Soccer ages 5-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Baseball ages 7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ootball ages 7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erleading ages 5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omic Sans MS"/>
              </a:rPr>
              <a:t>$30 for the 1</a:t>
            </a:r>
            <a:r>
              <a:rPr b="1" lang="en-US" sz="2800" spc="-1" strike="noStrike" baseline="30000">
                <a:solidFill>
                  <a:srgbClr val="4d4d4d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4d4d4d"/>
                </a:solidFill>
                <a:latin typeface="Comic Sans MS"/>
              </a:rPr>
              <a:t> child/ $20 ea add’l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omic Sans MS"/>
              </a:rPr>
              <a:t>A birth certificate must be presented at the time of  regist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 EXCEPTIONS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5486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620120" y="54864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 rot="20502600">
            <a:off x="0" y="5257440"/>
            <a:ext cx="2362320" cy="14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2:45:15Z</dcterms:created>
  <dc:creator> </dc:creator>
  <dc:description/>
  <dc:language>en-US</dc:language>
  <cp:lastModifiedBy> </cp:lastModifiedBy>
  <dcterms:modified xsi:type="dcterms:W3CDTF">2012-05-02T12:46:18Z</dcterms:modified>
  <cp:revision>1</cp:revision>
  <dc:subject/>
  <dc:title>Fall Sports Registration</dc:title>
</cp:coreProperties>
</file>