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B3A-DFC2-4947-A30A-00BA0CA8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D31-69E8-4A0E-990E-C8386B32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83F-955A-410C-BEB0-1331E271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DB7-4572-41A1-97A4-4E872E70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9E0-FD68-4D5B-BBEF-402E6791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84C-4F24-49F9-810A-D829A89E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6E8-D8DA-42DC-B331-099A8E9E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13F-926A-4C2C-B80B-395B1867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E6F-5D2F-478D-94F2-A202DBF3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DF9-211E-4652-95CB-32001B42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C17-8287-4F3E-AC55-5D6074AF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591-59A7-4EFF-A505-404DBECE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E08F-568C-400C-97CF-2CC55175FA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Hope Mills Senior Center</a:t>
            </a:r>
            <a:br>
              <a:rPr sz="4400"/>
            </a:b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announces….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494000"/>
            <a:ext cx="89917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Harlow Solid Italic"/>
              </a:rPr>
              <a:t>The Silver Laces Walking Club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Join the Hope Mills Silver La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Every Monday &amp; Wednes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3226 Davis Str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rom 10am-11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st is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Come put your best foot forward to a healthier you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403848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162396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8:59:00Z</dcterms:created>
  <dc:creator> </dc:creator>
  <dc:description/>
  <dc:language>en-US</dc:language>
  <cp:lastModifiedBy> </cp:lastModifiedBy>
  <dcterms:modified xsi:type="dcterms:W3CDTF">2012-01-06T19:04:12Z</dcterms:modified>
  <cp:revision>5</cp:revision>
  <dc:subject/>
  <dc:title>2012 SPRING ADULT SOFTBALL</dc:title>
</cp:coreProperties>
</file>