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F69-15EE-4E9D-84F9-0F2CBD77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C1E-54B2-4CA4-A716-4C1EDA6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0CD-B7C0-4C11-975D-2B13C626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94A-EE5F-4EEC-8ECB-68CA3768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3FF-BA53-45FD-9C00-10AB909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A8C-D7F5-4784-BA0F-C5D54D8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F30-A59B-4312-B7E2-4BA45241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B06-0AE4-414D-BFD6-380535E5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E32-FBC1-4173-811A-253C79E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A3C-BCE7-4092-944F-E7B388E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746-BF27-4FF0-A0B4-BA57A453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F31-1C45-452F-9F5D-23CC20F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F9E6-D089-4C64-B1D2-EF5CBD368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Hope Mills Senior Center</a:t>
            </a: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announces…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9400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Harlow Solid Italic"/>
              </a:rPr>
              <a:t>The Silver Laces Walking Club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Join the Hope Mills Silver La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Every Monday &amp; Wednes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3226 Davis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om 10am-11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st is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Come put your best foot forward to a healthier you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16239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59:00Z</dcterms:created>
  <dc:creator> </dc:creator>
  <dc:description/>
  <dc:language>en-US</dc:language>
  <cp:lastModifiedBy> </cp:lastModifiedBy>
  <dcterms:modified xsi:type="dcterms:W3CDTF">2012-01-06T19:04:12Z</dcterms:modified>
  <cp:revision>5</cp:revision>
  <dc:subject/>
  <dc:title>2012 SPRING ADULT SOFTBALL</dc:title>
</cp:coreProperties>
</file>