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729-38C0-4630-9960-8D61973D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E19-E28C-4F94-B597-A582048A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F09-287B-4AF4-A8D1-D05CAD11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E8F-4C1E-4F07-9E60-3FBE61FC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158-BC21-417B-B74F-8C712A9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3D5-83B2-404B-8479-F853798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28F-7C15-4973-B750-A7E2B74C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BA9-E5EE-4583-A5D3-44EE9BD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EB7-4142-423A-85CC-FC6CE76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CD9-6CB8-4733-AFBC-229D1BB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4FB-D1F4-4B4E-A8AF-5E8BBAA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749-9D7B-4E52-8340-394A1D4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F57-3920-4540-9273-D43133C8A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c08d"/>
                </a:solidFill>
                <a:latin typeface="Curlz MT"/>
              </a:rPr>
              <a:t>Join us at the</a:t>
            </a:r>
            <a:br>
              <a:rPr sz="6000"/>
            </a:br>
            <a:r>
              <a:rPr b="1" lang="en-US" sz="6600" spc="-1" strike="noStrike">
                <a:solidFill>
                  <a:srgbClr val="ff6600"/>
                </a:solidFill>
                <a:latin typeface="Curlz MT"/>
              </a:rPr>
              <a:t>Hope Mills Senior Center</a:t>
            </a:r>
            <a:br>
              <a:rPr sz="6600"/>
            </a:br>
            <a:r>
              <a:rPr b="1" lang="en-US" sz="6000" spc="-1" strike="noStrike">
                <a:solidFill>
                  <a:srgbClr val="dfc08d"/>
                </a:solidFill>
                <a:latin typeface="Curlz MT"/>
              </a:rPr>
              <a:t>for Coffee &amp; News…</a:t>
            </a:r>
            <a:endParaRPr b="0" lang="en-US" sz="6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Enjoy a cup of coffee with friends while catching up on the latest local &amp; national new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Cookies will also be serv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Monday – Friday, 8:30am to 9:30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3226 Davis Street, Hope M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ff"/>
                </a:solidFill>
                <a:latin typeface="Comic Sans MS"/>
              </a:rPr>
              <a:t>Cost is $0.25 per c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491508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6685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5959440"/>
            <a:ext cx="61272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59:00Z</dcterms:created>
  <dc:creator> </dc:creator>
  <dc:description/>
  <dc:language>en-US</dc:language>
  <cp:lastModifiedBy> </cp:lastModifiedBy>
  <dcterms:modified xsi:type="dcterms:W3CDTF">2012-01-06T19:03:32Z</dcterms:modified>
  <cp:revision>4</cp:revision>
  <dc:subject/>
  <dc:title>2012 SPRING ADULT SOFTBALL</dc:title>
</cp:coreProperties>
</file>