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BAEE-D0E5-4468-92FD-C23268F31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A232-3F89-4092-80A2-5068C8F5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6CBF-A829-40C4-AED2-9C9F49835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AF1F-1FFB-4A6E-A404-79CEBA1FF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28FC-60E7-4C6F-9697-E9CA8548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1103-15CD-46C2-84E8-CE0A9C46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0D10-17D5-4FA0-B9AF-2B9C2BAC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02D9-91F8-405C-B19D-114ED93C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C772-D960-4559-80D4-11A3306A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7D13-0DCB-447F-92ED-02ACEA0A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9542-111F-4AA3-96B1-FA36393B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AC39-4712-4C23-B72B-CE25E3B8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6241-CD0F-412C-B5E5-BD42037FE2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c08d"/>
                </a:solidFill>
                <a:latin typeface="Curlz MT"/>
              </a:rPr>
              <a:t>Join us at the</a:t>
            </a:r>
            <a:br>
              <a:rPr sz="6000"/>
            </a:br>
            <a:r>
              <a:rPr b="1" lang="en-US" sz="6600" spc="-1" strike="noStrike">
                <a:solidFill>
                  <a:srgbClr val="ff6600"/>
                </a:solidFill>
                <a:latin typeface="Curlz MT"/>
              </a:rPr>
              <a:t>Hope Mills Senior Center</a:t>
            </a:r>
            <a:br>
              <a:rPr sz="6600"/>
            </a:br>
            <a:r>
              <a:rPr b="1" lang="en-US" sz="6000" spc="-1" strike="noStrike">
                <a:solidFill>
                  <a:srgbClr val="dfc08d"/>
                </a:solidFill>
                <a:latin typeface="Curlz MT"/>
              </a:rPr>
              <a:t>for Coffee &amp; News…</a:t>
            </a:r>
            <a:endParaRPr b="0" lang="en-US" sz="6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297180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Enjoy a cup of coffee with friends while catching up on the latest local &amp; national new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Cookies will also be serve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ff"/>
                </a:solidFill>
                <a:latin typeface="Comic Sans MS"/>
              </a:rPr>
              <a:t>Monday – Friday, 8:30am to 9:30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ff"/>
                </a:solidFill>
                <a:latin typeface="Comic Sans MS"/>
              </a:rPr>
              <a:t>3226 Davis Street, Hope Mil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ff"/>
                </a:solidFill>
                <a:latin typeface="Comic Sans MS"/>
              </a:rPr>
              <a:t>Cost is $0.25 per cu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391520" y="4915080"/>
            <a:ext cx="1942920" cy="1942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3520" y="49528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781680" y="5791320"/>
            <a:ext cx="668520" cy="1066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52280" y="5959440"/>
            <a:ext cx="612720" cy="89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8:59:00Z</dcterms:created>
  <dc:creator> </dc:creator>
  <dc:description/>
  <dc:language>en-US</dc:language>
  <cp:lastModifiedBy> </cp:lastModifiedBy>
  <dcterms:modified xsi:type="dcterms:W3CDTF">2012-01-06T19:03:32Z</dcterms:modified>
  <cp:revision>4</cp:revision>
  <dc:subject/>
  <dc:title>2012 SPRING ADULT SOFTBALL</dc:title>
</cp:coreProperties>
</file>