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F6-95FF-4A94-A4FC-7DA0032B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84B-C575-44C6-9D42-EC2F911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A0B-6689-40AF-ACC3-A7A7951D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9BF-03E5-43BE-9F02-9228C80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C78-85B7-4534-9794-5383F58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F2A-6BBF-4ABE-9114-18A95E6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2EF-63C5-4844-A7A0-7F48D03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EC8-3317-433C-A4F5-1B7F7682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BE4-062A-41F5-A8FF-0EBC95A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AEF-7295-4560-BFB2-1B9A753E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319-53FA-4515-9CC4-33128A4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E78-C8CB-4D3B-A4B8-E96B1A35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C09-8F11-4D66-8582-2D654B8F0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nap ITC"/>
              </a:rPr>
              <a:t>Hope Mills Senior Cent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29240" y="3048120"/>
            <a:ext cx="451476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5238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Snap ITC"/>
              </a:rPr>
              <a:t>BINGO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44956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Ages 55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Monday of the mon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0 am – 11:30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Thursday of the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pm-3:30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Cost: 6 games at $ 0.50 per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freshments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99072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nap ITC"/>
              </a:rPr>
              <a:t>Challenges you to a gam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20:45:15Z</dcterms:created>
  <dc:creator> </dc:creator>
  <dc:description/>
  <dc:language>en-US</dc:language>
  <cp:lastModifiedBy> </cp:lastModifiedBy>
  <dcterms:modified xsi:type="dcterms:W3CDTF">2011-12-29T20:55:06Z</dcterms:modified>
  <cp:revision>2</cp:revision>
  <dc:subject/>
  <dc:title>Hope Mills Senior Center</dc:title>
</cp:coreProperties>
</file>