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EBB-922B-4123-BCD6-95498300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440-CAF9-41FD-B53F-F44ACB9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E61-3980-4D28-A965-09850CDA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D56-0B17-45CB-AC95-CE844AE2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240-38F0-46AF-8A25-66E69C01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27A-811A-435A-BCAE-903D1013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1E3-9F00-4F69-AB4F-DEFE2D7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E52-E281-4789-B3F0-BBDAA38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AC2-9131-4FAA-B957-C238859E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ACB-5D5C-4024-A718-195DD9FD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EDF-2611-41AE-86C1-599AD346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CEE-0B90-4F18-8FF1-46E0619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62D6-6622-4286-B45B-CD8CE9473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Snap ITC"/>
              </a:rPr>
              <a:t>Hope Mills Senior Center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29240" y="3048120"/>
            <a:ext cx="451476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5238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Snap ITC"/>
              </a:rPr>
              <a:t>BINGO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44956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Ages 55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1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Monday of the mon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10 am – 11:30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20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Thursday of the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2pm-3:30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Cost: 6 games at $ 0.50 per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freshments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99072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nap ITC"/>
              </a:rPr>
              <a:t>Challenges you to a gam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20:45:15Z</dcterms:created>
  <dc:creator> </dc:creator>
  <dc:description/>
  <dc:language>en-US</dc:language>
  <cp:lastModifiedBy> </cp:lastModifiedBy>
  <dcterms:modified xsi:type="dcterms:W3CDTF">2011-12-29T20:55:06Z</dcterms:modified>
  <cp:revision>2</cp:revision>
  <dc:subject/>
  <dc:title>Hope Mills Senior Center</dc:title>
</cp:coreProperties>
</file>