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A22-7E86-4FAB-A814-74FE9DF6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A35-B694-4528-BF4E-0F0A06AC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EE19-8C77-496A-A915-24E9D5AC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5B4A-1D4D-47F2-BA94-D06491DB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7CD6-735A-41EB-8AFF-85E1827B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8906-7CC7-479C-9FAB-50657B96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12A2-8545-43D4-AAC8-8E215EDD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312A-4B6E-4247-A294-BE352141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4121-DC0B-4349-813C-BD13E81D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5920-9440-4D65-BB81-55219C02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272D-C5F7-4171-BBA1-76702940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36A-D879-4781-A8B2-B5657F7A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5EF6-4C70-4B23-B18F-CF2D17CF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AB1B-3A6B-40E6-964F-67B40B8B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346C-6CF3-45C7-934F-C5D6CEB0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A418-2369-4EF8-B894-9BBFA7F4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242A-BD62-44EE-8008-C9F9C4AE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F65-E5CA-44BE-9A25-F5BA5114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4F0E-4A8A-4BD9-AA15-75F94714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5550-F6AB-4392-9F88-30262398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A08-71EC-4477-ACA0-6C0F5E66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7B0-5239-4C94-88B1-1DFB8A98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D3D9-02B3-4C25-8B10-AE899B17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79F-A6A9-47F9-BF47-5513319E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DF33-7A50-4DBD-A8DF-542315FF9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817E-9CD9-4CFD-AF73-E05E287DE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Ravie"/>
              </a:rPr>
              <a:t>Hope Mills Senior Center</a:t>
            </a:r>
            <a:endParaRPr b="1" lang="en-US" sz="4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600" y="57909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t will help boost your metabolism, increase your alertness and energy levels.  Benefits include increase muscle strength, circulation, range of motion and puts you on track to a healthier lifesty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99072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Comic Sans MS"/>
              </a:rPr>
              <a:t>Chair Exercise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90512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Every Tuesday &amp; Thurs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10:30 am -11:30 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FREE &amp; open to ages 55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76720" y="38862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20:13:22Z</dcterms:created>
  <dc:creator> </dc:creator>
  <dc:description/>
  <dc:language>en-US</dc:language>
  <cp:lastModifiedBy> </cp:lastModifiedBy>
  <dcterms:modified xsi:type="dcterms:W3CDTF">2011-12-29T20:34:06Z</dcterms:modified>
  <cp:revision>3</cp:revision>
  <dc:subject/>
  <dc:title>Hope Mills Senior Center</dc:title>
</cp:coreProperties>
</file>