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AB0-E8FB-4EC4-8318-F85698C0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112-6592-495A-BCED-63692EA8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C1D-7011-497C-A8A6-40E72F48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169-81B4-4C66-BEBF-394B8F7C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9A36-1C29-47E7-9B04-671FFBBF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CA6B-5CE4-4D16-901A-00EE7740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F2C5-0BC0-4BEA-A45E-7FEB9CB4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63B4-9340-43EA-9553-BABE089D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03C4-81B5-4F18-8688-0BDBB2EA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FC6A-7E71-4761-BCD8-E6EA5C78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48B8-A86A-44EB-9355-9B66D4AA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4DD-7BF3-4347-BB48-FAF4ED0C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013E-3C6E-4BDD-BBF1-930F7AF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2389-03E0-4BFB-A0E2-A964697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65B1-6D2B-455A-810F-5A5A09B4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E59B-F475-45AD-916D-549474EE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8C7D-1D0E-4FC5-B7B5-65E53F87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3E0-6008-4F4C-B182-A79009DE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109-E1A8-4AF8-910D-3E4FD301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8CD-8F26-4537-A1D1-935D4A88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AF1-1A4F-4912-83AE-0F297B16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7C5-7D19-4A68-A423-07ACD765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9FF-C7C4-4A5B-896D-2114631F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996-56F3-4A1E-AA54-291E36F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E425-B270-42C0-AA15-6156FD2B9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2D06-8FC9-41A3-AF80-7670FBA2C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Ravie"/>
              </a:rPr>
              <a:t>Hope Mills Senior Center</a:t>
            </a:r>
            <a:endParaRPr b="1" lang="en-US" sz="4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57909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 will help boost your metabolism, increase your alertness and energy levels.  Benefits include increase muscle strength, circulation, range of motion and puts you on track to a healthier lifesty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9907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Comic Sans MS"/>
              </a:rPr>
              <a:t>Chair Exercise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9051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Every Tuesday &amp; Thurs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10:30 am -11:30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FREE &amp; open to ages 55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38862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20:13:22Z</dcterms:created>
  <dc:creator> </dc:creator>
  <dc:description/>
  <dc:language>en-US</dc:language>
  <cp:lastModifiedBy> </cp:lastModifiedBy>
  <dcterms:modified xsi:type="dcterms:W3CDTF">2011-12-29T20:34:06Z</dcterms:modified>
  <cp:revision>3</cp:revision>
  <dc:subject/>
  <dc:title>Hope Mills Senior Center</dc:title>
</cp:coreProperties>
</file>