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AA2-F823-449C-B164-5FFF491A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9B5-C792-4CF9-B10D-EF1E1F4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B02-3A97-4F30-9805-C6843AFD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80C-515B-4D8B-9BC6-E4BCEA9D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D0B-3B86-464A-8315-015820B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F51-4A24-4F21-A807-DD83557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CCF-24A1-47C3-9A08-75A61060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EDD-2483-486A-AF6B-9C56DFAF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90F-5873-4649-A784-C958EBE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1BE-0260-4209-BED8-17BD830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9A3-0176-491C-A257-0928EA2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784-8AE7-435F-8814-50BE4BB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3872-FAA0-441B-A36E-5D4B9918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2280" y="4800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o keep you informed on 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f the latest event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ctivities, programs and sport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5333760" cy="1803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33720" y="22096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1337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9900"/>
                </a:solidFill>
                <a:latin typeface="Georgia"/>
              </a:rPr>
              <a:t>LIKE U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2361960" cy="22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20:35:48Z</dcterms:created>
  <dc:creator> </dc:creator>
  <dc:description/>
  <dc:language>en-US</dc:language>
  <cp:lastModifiedBy> </cp:lastModifiedBy>
  <dcterms:modified xsi:type="dcterms:W3CDTF">2011-09-28T14:31:56Z</dcterms:modified>
  <cp:revision>3</cp:revision>
  <dc:subject/>
  <dc:title>Open Gym Hours</dc:title>
</cp:coreProperties>
</file>