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9B9-24D1-44BA-A512-08159687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6A5-9858-4948-AC49-126139A5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6C7-4F6B-47DF-AEEF-E1C83597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28A-FD74-459E-A93E-83F4D75E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8B2-0145-4589-B576-12609FE6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C39-E908-41D5-99A5-C687C892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3B8-B6A4-4492-B2B5-42796BB7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00E-99EF-4C43-9C3C-4D74CE04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743-0F70-4A5D-B793-48F508F6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C62E-4DB9-4FAC-A669-F8D7934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945-4503-4B68-87F0-39FF10B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596-7F44-46FE-B09A-29D92366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C63F-020F-4C63-8750-812C4FE45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480024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o keep you informed on 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f the latest event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ctivities, programs and sports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5333760" cy="1803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33720" y="220968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13372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9900"/>
                </a:solidFill>
                <a:latin typeface="Georgia"/>
              </a:rPr>
              <a:t>LIKE US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2361960" cy="22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20:35:48Z</dcterms:created>
  <dc:creator> </dc:creator>
  <dc:description/>
  <dc:language>en-US</dc:language>
  <cp:lastModifiedBy> </cp:lastModifiedBy>
  <dcterms:modified xsi:type="dcterms:W3CDTF">2011-09-28T14:31:56Z</dcterms:modified>
  <cp:revision>3</cp:revision>
  <dc:subject/>
  <dc:title>Open Gym Hours</dc:title>
</cp:coreProperties>
</file>