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35E-26AD-4915-A949-758D9D68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5C6-CBAB-4500-BFB0-38612625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58E-E8B4-4AE8-B385-E6F7966E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240-3E61-4EA6-BCD5-EE0B0EB5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1E9-5DAD-4475-BD83-A2CAD577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EF5-5ACB-45B9-AB8E-73B5C5D9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DED-0151-4A7D-BF1B-1E4B87CE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DFF-1BF9-4F84-A145-60B97966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788-444F-4CB1-8881-F54115C9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EE3-38C4-4227-BEE5-1834648C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2B2-CE26-4B5E-934F-84D8E1E7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E37-599B-46E1-9AEF-7652F167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F374-80B6-4737-B911-3B4B288C3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Mistral"/>
              </a:rPr>
              <a:t>SKATEBOARD PARK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40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HOURS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April 1-October 31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Mon-Sat: 9am-9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Sunday: 1pm-9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Nov 1-March 31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Mon-Sat: 9a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Sunday: 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276720"/>
            <a:ext cx="281952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The Hope Mills Skateboard Park is an unsupervised public facility &amp; participants skate at their own ris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All participants must wear helmets, pads and guar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No bicycles, scooters and motorized vehic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Enter at own risk. Flying objects are not uncomm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No spectators inside skating area. Watch from outside the skating a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Loud music, unruly behavior and vulgar language are prohibit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No additional rails, ramps, etc may be brought into the park</a:t>
            </a:r>
            <a:r>
              <a:rPr b="1" lang="en-US" sz="1200" spc="-1" strike="noStrike">
                <a:solidFill>
                  <a:srgbClr val="ffff00"/>
                </a:solidFill>
                <a:latin typeface="Arial Rounded MT Bol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3276720"/>
            <a:ext cx="28195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0e500"/>
                </a:solidFill>
                <a:latin typeface="Arial Rounded MT Bold"/>
              </a:rPr>
              <a:t>8.</a:t>
            </a:r>
            <a:r>
              <a:rPr b="1" lang="en-US" sz="1100" spc="-1" strike="noStrike">
                <a:solidFill>
                  <a:srgbClr val="f0e500"/>
                </a:solidFill>
                <a:latin typeface="Arial Rounded MT Bold"/>
              </a:rPr>
              <a:t>	</a:t>
            </a:r>
            <a:r>
              <a:rPr b="1" lang="en-US" sz="1100" spc="-1" strike="noStrike">
                <a:solidFill>
                  <a:srgbClr val="f0e500"/>
                </a:solidFill>
                <a:latin typeface="Arial Rounded MT Bold"/>
              </a:rPr>
              <a:t>Alcohol, tobacco,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 weapons &amp; drugs are prohibi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9.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No pets allow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10.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Please use trash containers to keep the park cle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11.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Graffiti &amp; vandalism are prohibited. Violators will be prosecu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12.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Do not skate if the surface is wet or ic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13.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The Town of Hope Mills reserves the right to revoke usage of the park if rules are not obeyed. All town ordinances &amp; rules will be enforc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14.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1" lang="en-US" sz="1100" spc="-1" strike="noStrike">
                <a:solidFill>
                  <a:srgbClr val="ffff00"/>
                </a:solidFill>
                <a:latin typeface="Arial Rounded MT Bold"/>
              </a:rPr>
              <a:t>Use of the skate park is only allowed during hours of ope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05320" y="3429000"/>
            <a:ext cx="18208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2:38:31Z</dcterms:created>
  <dc:creator> </dc:creator>
  <dc:description/>
  <dc:language>en-US</dc:language>
  <cp:lastModifiedBy> </cp:lastModifiedBy>
  <dcterms:modified xsi:type="dcterms:W3CDTF">2011-09-08T12:38:46Z</dcterms:modified>
  <cp:revision>1</cp:revision>
  <dc:subject/>
  <dc:title>SKATEBOARD PARK </dc:title>
</cp:coreProperties>
</file>