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8D2-64D8-4A5A-9D03-EB66684E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F2D-2E7E-4E02-BFEA-B613E2D1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24D-4439-4D53-B070-29F19F26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CB3-48B3-44AE-8BD0-1DE08FBB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292-8F74-43C7-A441-4E37D43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F61-69C0-4A76-A649-350F90D7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210-E25E-4D93-9BEC-AD281660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884-BEFE-41A8-9D40-179AFF0A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EB3-AE38-43E7-B71B-1367F425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384-565F-4442-B7E6-2B4C1341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50A-77CB-4F27-A8B8-1CC6508B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C12-074E-4769-A502-AFD52D7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3CE9-5E1D-4CCA-A23E-C5EB229E7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Mistral"/>
              </a:rPr>
              <a:t>SKATEBOARD PARK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HOURS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April 1-October 31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Mon-Sat: 9am-9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Sunday: 1pm-9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Nov 1-March 31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Mon-Sat: 9a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Sunday: 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28195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The Hope Mills Skateboard Park is an unsupervised public facility &amp; participants skate at their own ris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All participants must wear helmets, pads and gua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No bicycles, scooters and motorized vehic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Enter at own risk. Flying objects are not uncomm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No spectators inside skating area. Watch from outside the skating a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Loud music, unruly behavior and vulgar language are prohibit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No additional rails, ramps, etc may be brought into the park</a:t>
            </a:r>
            <a:r>
              <a:rPr b="1" lang="en-US" sz="12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3276720"/>
            <a:ext cx="28195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e500"/>
                </a:solidFill>
                <a:latin typeface="Arial Rounded MT Bold"/>
              </a:rPr>
              <a:t>8.</a:t>
            </a:r>
            <a:r>
              <a:rPr b="1" lang="en-US" sz="1100" spc="-1" strike="noStrike">
                <a:solidFill>
                  <a:srgbClr val="f0e5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0e500"/>
                </a:solidFill>
                <a:latin typeface="Arial Rounded MT Bold"/>
              </a:rPr>
              <a:t>Alcohol, tobacco,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 weapons &amp; drugs are prohibi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9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No pets allow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10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Please use trash containers to keep the park cle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11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Graffiti &amp; vandalism are prohibited. Violators will be prosecu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12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Do not skate if the surface is wet or i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13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The Town of Hope Mills reserves the right to revoke usage of the park if rules are not obeyed. All town ordinances &amp; rules will be enforc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14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Use of the skate park is only allowed during hours of ope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18208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2:38:31Z</dcterms:created>
  <dc:creator> </dc:creator>
  <dc:description/>
  <dc:language>en-US</dc:language>
  <cp:lastModifiedBy> </cp:lastModifiedBy>
  <dcterms:modified xsi:type="dcterms:W3CDTF">2011-09-08T12:38:46Z</dcterms:modified>
  <cp:revision>1</cp:revision>
  <dc:subject/>
  <dc:title>SKATEBOARD PARK </dc:title>
</cp:coreProperties>
</file>